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333-7EC9-41E7-8670-C33260A4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2EC-8668-4EB5-A787-1B7A0A21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C62-718F-47C7-859C-326BC1D3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6A9-7229-4A0B-B929-E8DC0D96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6789-A578-4D5A-9057-50DDC4C1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9911-9994-4289-80CE-D80B5BCB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6F7F-5BB8-496E-9C40-3B87EF1A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A9E0-87EC-49BD-9B7D-937B12C7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AF19-EF70-426B-8789-941CC01F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8186-02E9-4B84-90D0-7C67A491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A816-B451-4454-806A-8B80E4D6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537-B85A-48AA-A9A7-41747040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18BB-E9FE-4999-AA49-5829CCC4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9B14-DB6D-4522-8834-C10A31A6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5D75-B406-4BB5-86F0-2572019B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156F-5605-4B54-AE32-4B892CA3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35C7-AF9F-4583-9C8A-1FD15F3F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F43-C9BC-4EF7-9875-4AFDFADB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96B-BEBE-4363-A187-EDE75CE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D71-C7ED-408D-92D4-B1167156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2A0-4C15-40C9-9F22-AA7D4EEE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62A-62DD-4FAC-AC2A-3EE568A7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D40-7C62-4A15-85D4-1A2737F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29E-F24C-49B4-90ED-CAF43A82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889C-7EC1-44AF-B539-8922ECED4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642E-65C1-45A8-B9B6-35CC80833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De ce este necesar sa comunicam cu ceilalti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6010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e9f9"/>
                </a:solidFill>
                <a:latin typeface="Arial Narrow"/>
              </a:rPr>
              <a:t>Dialogul este puntea dintre trecut şi viito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 ce situatii putem comun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e ce trebuie sa ne respectam partenerii de convesrati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5160" y="1042920"/>
            <a:ext cx="8116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0000"/>
                </a:solidFill>
                <a:latin typeface="Arial Narrow"/>
              </a:rPr>
              <a:t>Care sunt situatiile in care se foloseste dialog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0000"/>
                </a:solidFill>
                <a:latin typeface="Arial Narrow"/>
              </a:rPr>
              <a:t>Ce rol are conversatia in rezolvarea diferitelor  conflicte</a:t>
            </a:r>
            <a:r>
              <a:rPr b="1" i="1" lang="ro-RO" sz="4000" spc="-1" strike="noStrike">
                <a:solidFill>
                  <a:srgbClr val="ff0000"/>
                </a:solidFill>
                <a:latin typeface="Arial Narro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246680" y="284760"/>
            <a:ext cx="6573240" cy="4841280"/>
            <a:chOff x="1246680" y="284760"/>
            <a:chExt cx="6573240" cy="4841280"/>
          </a:xfrm>
        </p:grpSpPr>
        <p:sp>
          <p:nvSpPr>
            <p:cNvPr id="88" name="_s24588"/>
            <p:cNvSpPr/>
            <p:nvPr/>
          </p:nvSpPr>
          <p:spPr>
            <a:xfrm flipH="1">
              <a:off x="2950920" y="3634200"/>
              <a:ext cx="788040" cy="37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_s24587"/>
            <p:cNvSpPr/>
            <p:nvPr/>
          </p:nvSpPr>
          <p:spPr>
            <a:xfrm>
              <a:off x="1246680" y="3636720"/>
              <a:ext cx="1827360" cy="1489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-un mod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unere(in oper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terar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24586"/>
            <p:cNvSpPr/>
            <p:nvPr/>
          </p:nvSpPr>
          <p:spPr>
            <a:xfrm>
              <a:off x="5324400" y="3636720"/>
              <a:ext cx="791280" cy="370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24585"/>
            <p:cNvSpPr/>
            <p:nvPr/>
          </p:nvSpPr>
          <p:spPr>
            <a:xfrm>
              <a:off x="5992560" y="3634200"/>
              <a:ext cx="1827360" cy="14896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-o inlantuire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plic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24584"/>
            <p:cNvSpPr/>
            <p:nvPr/>
          </p:nvSpPr>
          <p:spPr>
            <a:xfrm flipV="1">
              <a:off x="4533480" y="1774800"/>
              <a:ext cx="0" cy="74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24583"/>
            <p:cNvSpPr/>
            <p:nvPr/>
          </p:nvSpPr>
          <p:spPr>
            <a:xfrm>
              <a:off x="3619800" y="284760"/>
              <a:ext cx="1827360" cy="14896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-un mijloc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munica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24582"/>
            <p:cNvSpPr/>
            <p:nvPr/>
          </p:nvSpPr>
          <p:spPr>
            <a:xfrm>
              <a:off x="3619800" y="2519640"/>
              <a:ext cx="1827360" cy="1489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e este dialogul?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GULI DE REALIZARE A DIALOGULUI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Stabiliti trei reguli pe care le considerati esentiale pentru realizarea unei conversatii eficien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295280" y="1828800"/>
          <a:ext cx="6857640" cy="4266720"/>
        </p:xfrm>
        <a:graphic>
          <a:graphicData uri="http://schemas.openxmlformats.org/drawingml/2006/table">
            <a:tbl>
              <a:tblPr/>
              <a:tblGrid>
                <a:gridCol w="2286000"/>
                <a:gridCol w="2257200"/>
                <a:gridCol w="2314440"/>
              </a:tblGrid>
              <a:tr h="14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S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VREAU SA S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9e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AM INVAT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27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9e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1360" y="380880"/>
            <a:ext cx="7929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mpletati tabelul urmator cu    informatii despre dialog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1:23:57Z</dcterms:created>
  <dc:creator> MARIANA MOREA</dc:creator>
  <dc:description/>
  <dc:language>en-US</dc:language>
  <cp:lastModifiedBy>mariana</cp:lastModifiedBy>
  <dcterms:modified xsi:type="dcterms:W3CDTF">2010-06-15T13:07:03Z</dcterms:modified>
  <cp:revision>12</cp:revision>
  <dc:subject/>
  <dc:title>PREZENTARE IDENTIFICARE NEVOI</dc:title>
</cp:coreProperties>
</file>